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6.png" ContentType="image/png"/>
  <Override PartName="/ppt/media/image4.pct" ContentType="image/x-pict"/>
  <Override PartName="/ppt/media/image5.jpeg" ContentType="image/jpeg"/>
  <Override PartName="/ppt/media/image7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72C7-2FEF-4C73-972D-1D1FDBA36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D40E-5369-4C33-9E9A-B4153108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0CBB-D77B-433C-911A-CC87FBA52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BAF0-07CC-4F32-B710-663D3DE56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0BC9-37A4-40D6-B0E1-CAA65E8AF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A524-7282-4CB0-9D28-AC24D83E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3706-ED8C-46AB-B4F6-61F6A0CA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158D-3FF7-4F5F-83F3-D3F6FA92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19B9-9A58-41F6-882F-D8B7CFEA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2565-4D6A-4DF3-B49C-D3E237B5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67E5-11EB-4364-BB3D-7363838D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AF32-4725-4C72-B1BC-DBDE6953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2DEC9-A062-438D-BE4E-AD6DB2A7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CBE3-FAD1-4594-94EA-D95FE414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A3EB-237D-46E0-B8BD-F7325BF0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FEE4-0959-4305-B779-35B10A568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F0362-BC66-4011-8D0B-05D9EE05D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F88D-9E54-450F-9514-6929F2D3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EE60-1D26-4A6D-AC5E-350AAC68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BA7F-8B88-4D78-AD0D-7E65090D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33DE-7CFF-4CE0-87FA-50C01ED2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6DBB-D157-4416-A0AE-494A3B31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BD6B-6F98-4D43-9808-BD2F74AC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504C-C4B2-4860-AF85-B782D841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60960" indent="-25416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1700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2416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83096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6F7C-D08F-42AC-9E62-FAE71811E794}" type="slidenum">
              <a:rPr b="0" lang="en-US" sz="1400" spc="-1" strike="noStrike">
                <a:solidFill>
                  <a:srgbClr val="000000"/>
                </a:solidFill>
                <a:latin typeface="Lucida Grande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16002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Grande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250F-88DC-4B9D-950A-15EA9B225770}" type="slidenum">
              <a:rPr b="0" lang="en-US" sz="1400" spc="-1" strike="noStrike">
                <a:solidFill>
                  <a:srgbClr val="000000"/>
                </a:solidFill>
                <a:latin typeface="Lucida Grande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914400" algn="ctr"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1371600" algn="ctr">
              <a:spcBef>
                <a:spcPts val="4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4" marL="1828800" algn="ctr">
              <a:spcBef>
                <a:spcPts val="4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hyperlink" Target="http://www.fueleconomy.gov/" TargetMode="External"/><Relationship Id="rId4" Type="http://schemas.openxmlformats.org/officeDocument/2006/relationships/hyperlink" Target="http://en.wikipedia.org/wiki/Fuel_efficiency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9144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Herculanum"/>
              </a:rPr>
              <a:t>Fuel Efficiency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Herculanum"/>
              </a:rPr>
              <a:t>Future vs. Now</a:t>
            </a:r>
            <a:endParaRPr b="0" i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By:</a:t>
            </a:r>
            <a:endParaRPr b="0" i="1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Mark Shimizu</a:t>
            </a:r>
            <a:endParaRPr b="0" i="1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hristopher Chiu</a:t>
            </a:r>
            <a:endParaRPr b="0" i="1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Kevin Ueunten</a:t>
            </a:r>
            <a:endParaRPr b="0" i="1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urrent Fuel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5943600" cy="243828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Gasoline (Petroleum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22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Used in the majority (80%) of car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22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3,588,000 Barrels are importe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22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each da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22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22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Diesel Fu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22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Unrefined form of Gasolin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22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Used in larger car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22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Lucida Grande"/>
              </a:rPr>
              <a:t>56 billion gallons per year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019920" y="1295280"/>
            <a:ext cx="28605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Alternative Fuel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4876920" cy="419112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thano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mpirical Formula C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Fuel additive in gasolin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Methano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mpirical Formula CH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OH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Methanol blended fuels are used by drag racer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172200" y="398772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095880" y="1600200"/>
            <a:ext cx="2362320" cy="18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512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Basic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Procedure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9880" y="2133720"/>
            <a:ext cx="5105520" cy="304776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800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Mass the alcohol burner with fu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800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ill the aluminum can with 200ml of water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800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Light alcohol burner and let it heat the water to desired temperature (50-70 degrees)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800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Quickly blow out the burner and cover it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800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Mass alcohol burner after fuel being used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80004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Use the data like the mass of fuel burnt and the change in temperature to calculate heat and amount of energy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19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Data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rcRect l="0" t="5264" r="0" b="0"/>
          <a:stretch/>
        </p:blipFill>
        <p:spPr>
          <a:xfrm>
            <a:off x="647640" y="1676520"/>
            <a:ext cx="7848720" cy="47098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7400" y="3429000"/>
            <a:ext cx="110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o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J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75080" y="61866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Things to Consider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90760" y="1523520"/>
            <a:ext cx="4724280" cy="487692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Diesel and Petroleum had the most energy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etroleum and Diesel had a lot more carbon emissions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Ethanol and Methanol may be more reasonable based on how they are better for the environment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"/>
          <p:cNvSpPr/>
          <p:nvPr/>
        </p:nvSpPr>
        <p:spPr>
          <a:xfrm>
            <a:off x="3862440" y="59436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e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2773080" cy="4165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38080" y="5867280"/>
            <a:ext cx="243864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3333cc"/>
                </a:solidFill>
                <a:uFillTx/>
                <a:latin typeface="Lucida Grande"/>
                <a:hlinkClick r:id="rId3"/>
              </a:rPr>
              <a:t>www.fueleconomy.g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3333cc"/>
                </a:solidFill>
                <a:uFillTx/>
                <a:latin typeface="Lucida Grande"/>
                <a:hlinkClick r:id="rId4"/>
              </a:rPr>
              <a:t>http://en.wikipedia.org/wiki/Fuel_efficiency</a:t>
            </a: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8:18:19Z</dcterms:created>
  <dc:creator>Punahou School</dc:creator>
  <dc:description/>
  <dc:language>en-US</dc:language>
  <cp:lastModifiedBy>Punahou School</cp:lastModifiedBy>
  <dcterms:modified xsi:type="dcterms:W3CDTF">2007-04-03T17:30:08Z</dcterms:modified>
  <cp:revision>4</cp:revision>
  <dc:subject/>
  <dc:title>Fuel Efficiency Future vs. Now</dc:title>
</cp:coreProperties>
</file>